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B8F2-B8CB-4A1B-B50C-CD4FBD48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5A65-05C7-44FE-946D-376E8623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74D8-FC4D-4AD6-94AE-8863660F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D0BE-BD8C-431D-8690-ABF2D112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15B7-2D75-4CD0-BDC9-C1347F82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E299-AC30-48F6-8D2E-3D1F4863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638C-613F-42EE-8791-502D6C3F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4B5D-05B0-4FC9-B048-F4D4460F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A5B5-8919-422A-A66A-89BED409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78FA-EC6A-4A9F-9399-3FE745A3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55C8-5FFF-4F5F-8AD2-953DCE89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48C6-8208-4518-AC94-81756754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FCCC-A045-4FF2-8142-2174F340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DDBE-496A-4794-B001-F35F6D97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2C9C-B977-46D6-AE65-014A890F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F5C8-3120-448D-9F27-66190C7E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F49B-8941-4346-810F-BABB0A83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7C854-B339-4D86-AFA4-F075DCE8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1D33D-D4C0-4E66-9C3E-D9691C5D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FFB3E-C144-4EB8-B31F-440B2821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77CF4-23F3-4A6D-8CB4-B4867225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48262-AC58-4B46-94CE-4295CA26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B251-1D9A-40FE-982D-CA0586F0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A2EB2-5D39-4C66-9EE9-0F55D328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DED8B-924D-48A9-BC24-3C3AD850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C0B97-1137-4CE4-A1F8-775388A1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38637-6812-49C0-A703-6177ECF6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EB6DD-B3E2-4133-AF83-8F914171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0D9BC-24C2-4239-A632-871EF15A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9C353-D53F-47BC-8732-474323EC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328E5-0EEA-4195-BB1A-9CFACB80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2342E-C0D5-4514-B041-773C193D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2DE6D-7069-492C-8E9E-F7CE56E0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5C29-0766-4D6A-9FEA-ACB485B6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02C2E-1033-49D4-BE2C-6861488B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8AD4B-C491-4391-9868-EFAD9BF6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5E34C-36DE-4981-8E7D-BCBAAC3A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5F062-7BAA-4364-B67F-E25B89A1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775F5-22AB-4991-88B0-B2862823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440BE-E07D-4266-BD8C-6F8FCBB9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2A3E8-C44C-4ACA-9F8E-ABA4E52A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D0A22-286F-43EC-AC99-82190C44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14948-89E5-47DE-B2E0-45DCA6855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66519-31DA-4ACD-B38F-7F528997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6AB1-B4BF-41FC-B10D-E7E77C4F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70782-93F9-4452-AC75-FB9E9177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E1964-C2AC-40B5-8BE6-E4EB7EEC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D6570-7A33-445E-A49C-B7EE2004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5C1B6-7490-4CE4-8528-A6DE8313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F7E7A-466A-4500-BE4B-73F81D5F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CD0DA-F41A-4644-8396-04414BA6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0D532-8731-44F8-B589-7D33E447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B3092-5EB1-436E-BEFA-6587C659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73BDB-82A4-49EC-96D4-72C8898E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100F2-6072-42E2-B1B6-272EB1CB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C5F9-BD19-4EEE-843B-BF12FCCB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282E3-8F2A-489B-8451-A74CFEC5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3732-BC68-4BFB-8149-4C8BACA0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3A2E-8EE1-47ED-8E40-8A038D2A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9F6E-F7E6-40AB-8A7B-ACD05A00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E133-C824-413B-B21F-97199B43498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B0AA-404F-4F5D-9ADD-6B53EA7E428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725B-86CE-4891-981F-7597CF95417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598A-AFA9-4C84-BC1C-CE8CE527EC4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29A8-E62A-4BBA-BBD5-52404597AF4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96464"/>
                </a:solidFill>
                <a:latin typeface="Cambria"/>
              </a:rPr>
              <a:t>Интегрисане академске студије фармације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96464"/>
                </a:solidFill>
                <a:latin typeface="Cambria"/>
              </a:rPr>
              <a:t>Увод у фармацеутску праксу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Систем здравствене заштите у Србији</a:t>
            </a: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br>
              <a:rPr sz="2400"/>
            </a:b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(Организација примарне, секундарне и терцијарне здравствене заштите, видови здравственог осигурања, начин уговарања здравствених услуг</a:t>
            </a:r>
            <a:r>
              <a:rPr b="0" lang="sr-CS" sz="16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 са здравственим установама, принципи упућивања пацијената) </a:t>
            </a: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sr-CS" sz="3200" spc="-1" strike="noStrike">
                <a:solidFill>
                  <a:srgbClr val="696464"/>
                </a:solidFill>
                <a:latin typeface="Calibri"/>
              </a:rPr>
              <a:t>Начело правичности здравствене заштите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Начело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правичности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здравствене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заштите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остваруј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абраном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дискриминациј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риликом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ружањ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дравствен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аштит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основ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рас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л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тарост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националн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рипадност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оцијалног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рекл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вероисповест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литичког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л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другог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убеђењ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мовног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тањ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култур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језик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врст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болест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сихичког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л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телесног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нвалидитета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sr-CS" sz="3200" spc="-1" strike="noStrike">
                <a:solidFill>
                  <a:srgbClr val="696464"/>
                </a:solidFill>
                <a:latin typeface="Calibri"/>
              </a:rPr>
              <a:t>Начело приступачности здравствене заштите</a:t>
            </a:r>
            <a:br>
              <a:rPr sz="36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Perpetua"/>
              </a:rPr>
              <a:t>Начело</a:t>
            </a:r>
            <a:r>
              <a:rPr b="1" lang="vi-VN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Perpetua"/>
              </a:rPr>
              <a:t>приступачности</a:t>
            </a:r>
            <a:r>
              <a:rPr b="1" lang="vi-VN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Perpetua"/>
              </a:rPr>
              <a:t>здравствене</a:t>
            </a:r>
            <a:r>
              <a:rPr b="1" lang="vi-VN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Perpetua"/>
              </a:rPr>
              <a:t>заштите</a:t>
            </a:r>
            <a:r>
              <a:rPr b="1" lang="vi-VN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остваруј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с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обезбеђивање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одговарајућ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здравствен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заштит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грађаним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Републик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кој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ј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физички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географски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економски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доступн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односно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културно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прихватљив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посебно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здравствен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заштит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н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примарно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нивоу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Начело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свеобухватности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здравствене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заштите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Perpetua"/>
              </a:rPr>
              <a:t>Начело</a:t>
            </a:r>
            <a:r>
              <a:rPr b="1" lang="vi-VN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Perpetua"/>
              </a:rPr>
              <a:t>свеобухватности</a:t>
            </a:r>
            <a:r>
              <a:rPr b="1" lang="vi-VN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Perpetua"/>
              </a:rPr>
              <a:t>здравствене</a:t>
            </a:r>
            <a:r>
              <a:rPr b="1" lang="vi-VN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Perpetua"/>
              </a:rPr>
              <a:t>заштите</a:t>
            </a:r>
            <a:r>
              <a:rPr b="1" lang="vi-VN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остваруј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с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укључивање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свих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грађан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Републик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у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систе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здравствен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заштит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уз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примену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обједињених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мер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поступак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здравствен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заштит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кој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обухватају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промоцију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здрављ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превенцију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болести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н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сви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нивоим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рану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дијагнозу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лечењ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рехабилитацију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Начело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континуираности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здравствене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заштите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Начело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континуираности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здравствене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заштит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остваруј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укупном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организацијом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истем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дравствен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аштит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кој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мор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бит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функционално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везан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усклађен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нивоим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од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римарног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реко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екундарног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до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терцијарног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ниво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дравствен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аштит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кој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руж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непрекидн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дравствен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аштит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грађаним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Републик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ваком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животном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доб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Начело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сталног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унапређења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квалитета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здравствене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заштите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Начело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сталног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унапређења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квалитета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здравствене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заштите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остваруј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мерам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активностим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којим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клад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авременим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достигнућим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медицинск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наук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ракс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већавај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могућност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вољног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сход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мањивањ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ризик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других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нежељених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следиц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дрављ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дравствено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тањ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јединц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аједниц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целин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Начело ефикасности здравствене заштите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Perpetua"/>
              </a:rPr>
              <a:t>Начело ефикасности здравствене заштите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остварује се постизањем најбољих могућих резултата у односу на расположива финансијска средства, односно постизањем највишег нивоа здравствене заштите уз најнижи утрошак средстава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96464"/>
                </a:solidFill>
                <a:latin typeface="Calibri"/>
              </a:rPr>
              <a:t>ЈАВНО ЗДРАВЉЕ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'‘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Н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аука и уметност </a:t>
            </a:r>
            <a:r>
              <a:rPr b="1" i="1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превенције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 болести, </a:t>
            </a:r>
            <a:r>
              <a:rPr b="0" i="1" lang="sr-CS" sz="2600" spc="-1" strike="noStrike">
                <a:solidFill>
                  <a:srgbClr val="000000"/>
                </a:solidFill>
                <a:latin typeface="Cambria"/>
              </a:rPr>
              <a:t>продуживања живо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та и </a:t>
            </a:r>
            <a:r>
              <a:rPr b="1" i="1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унапређења менталног и физичког здравља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 </a:t>
            </a:r>
            <a:r>
              <a:rPr b="1" i="1" lang="sr-CS" sz="2600" spc="-1" strike="noStrike">
                <a:solidFill>
                  <a:srgbClr val="ff0000"/>
                </a:solidFill>
                <a:latin typeface="Cambria"/>
              </a:rPr>
              <a:t>ефикасности кроз организоване напоре заједнице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''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   “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Вештина и научни приступ у спречавању болести, продужавању животног века и промовисању здравља путем организованог напора друштва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96464"/>
                </a:solidFill>
                <a:latin typeface="Calibri"/>
              </a:rPr>
              <a:t>ЈАВНО ЗДРАВЉЕ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Јавно здравље укључује </a:t>
            </a:r>
            <a:r>
              <a:rPr b="1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програме и активности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оријентисане ка заједници, било да доприносе свима (на пример, чист ваздух и вода), или само појединцима (на пример: скрининг програми, саветовалишта за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превенцију болести, контролу хроничних болести...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).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96464"/>
                </a:solidFill>
                <a:latin typeface="Calibri"/>
              </a:rPr>
              <a:t>ЈАВНО ЗДРАВЉЕ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Области деловања јавног здравља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Arial"/>
              </a:rPr>
              <a:t>Физичко, ментално и социјално здравље становништв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Arial"/>
              </a:rPr>
              <a:t>Промоција здравља и превенција болест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Arial"/>
              </a:rPr>
              <a:t>Животна средина и здравље становништв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Arial"/>
              </a:rPr>
              <a:t>Радна околина и здравље становништв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Arial"/>
              </a:rPr>
              <a:t>Организација и функционисање здравственог систем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Arial"/>
              </a:rPr>
              <a:t>Функционисање здрваственог система у кризними ванредним условим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Arial"/>
              </a:rPr>
              <a:t>НОСИОЦИ АКТИВНОСТИ УЈАВНОМ ЗДРАВЉУ СУ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Perpetua"/>
                <a:ea typeface="Arial"/>
              </a:rPr>
              <a:t>ИНСТИТУТИ И ЗАВОДИ ЗА ЈАВНО ЗДРАВЉЕ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Arial"/>
              </a:rPr>
              <a:t> КОЈИ ПЛАНИРАЈУ, ОРГАНИЗУЈУ, СПРОВОДЕ И ВРЕДНУЈУ АКТИВНОСТИ У ОБЛАСТИ ЈАВНОГ ЗДРАВЉА И СТРУЧНО ПОВЕЗУЈУ ОСТАЛЕ УЧЕСНИКЕ ЗДРАВСТВЕНОГ СИСТЕМА У СПРОВОЂЕЊУ ОВИХ АКТИВНОСТИ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96464"/>
                </a:solidFill>
                <a:latin typeface="Calibri"/>
              </a:rPr>
              <a:t>Финансирање здравствене заштите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 u="sng">
                <a:solidFill>
                  <a:srgbClr val="ff0000"/>
                </a:solidFill>
                <a:uFillTx/>
                <a:latin typeface="Cambria"/>
              </a:rPr>
              <a:t>Републички завод за здравствено осигурање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, са филијалама у сваком граду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риходи завода: </a:t>
            </a:r>
            <a:r>
              <a:rPr b="1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од обавезног доприноса за здравствено осигурање запослених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Финансирање здравствених установа: кроз уговарање одређеног броја услуг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Систем здравствене заштите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истем здравствене заштите Републике Србије представља свеобухватани орагнизован систем који чине више различитих елемената који су интегрисани у једну целину у којој се обавља здравствена делатност на различитим нивоима здравствене заштите са јасно дефинисаним циљевима а чије функционисање је уређено Законом о здравственој заштити Републике Србије који је садржан у Службеном гласнику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96464"/>
                </a:solidFill>
                <a:latin typeface="Calibri"/>
              </a:rPr>
              <a:t>Финансирање здравствене заштите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роцес финансирања здравственог система се остварује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као резултат садејства прикупљања средстава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формирањем фондова који та средства алоцирају ка одређеним сегментима здравственог система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роцеси прикупљања средстава подразумевају средства која се добијају кроз систем наплате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Perpetua"/>
              </a:rPr>
              <a:t>обавезног здравственог осигурања појединца, послодавца и друштва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96464"/>
                </a:solidFill>
                <a:latin typeface="Calibri"/>
              </a:rPr>
              <a:t>Финансирање здравствене заштите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Након те фазе прикупљена средства  се распоређују према корисницима тј осигураним лицима који могу да користе здравствене услуге на основу здр.осигурања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Прикупљена средства се корист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према принципу солидарности и узајамности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односно у зависности од висине месечних примања издвајају се различита средства а користеих сви према потребама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Овакав вид финансирањаје типичан за државни сектор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96464"/>
                </a:solidFill>
                <a:latin typeface="Calibri"/>
              </a:rPr>
              <a:t>Фармацеутска здравствена делатност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д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mbria"/>
              </a:rPr>
              <a:t>фармацеутском здравственом делатношћу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 подразумева 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Cambria"/>
              </a:rPr>
              <a:t>Одговорно снадбевање лековима и другим медицинским средствима становништва, здравствених установа и приватне праксе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Cambria"/>
              </a:rPr>
              <a:t>Обезбеђивање рационалне фармакотерапије ради лечења, побољшања и унапређивања квалитета живота оболелих коју спроводи дипломирани фармацеут, односно дипломирани фармацеут са одговарајућом специјализацијом у сарадњи са осталим здравственим радницима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96464"/>
                </a:solidFill>
                <a:latin typeface="Calibri"/>
              </a:rPr>
              <a:t>Фармацеутска здравствена делатност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600" spc="-1" strike="noStrike">
                <a:solidFill>
                  <a:srgbClr val="000000"/>
                </a:solidFill>
                <a:latin typeface="Cambria"/>
              </a:rPr>
              <a:t>Континуирани процес унапређења употребе лекова и медицинских средстав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600" spc="-1" strike="noStrike">
                <a:solidFill>
                  <a:srgbClr val="000000"/>
                </a:solidFill>
                <a:latin typeface="Cambria"/>
              </a:rPr>
              <a:t>Стални надзор примене лекова и детекција нежељених ефеката лекова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Систем здравствене заштите у Србиј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Здравствена делатност се спроводи у здравственим установама које могу бити основан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у јавној или приватној својини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а у оквиру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примарне, секундарне и  терцијарне здравствене заштите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Здравствене установе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су: дом здравља, здравствена установа поликлиника, апотекарска установа,болница, здравствени центар, завод, завод за јавно здравље, клиника, институт,  клиничко болнички центар, универзитетски клинички центар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96464"/>
                </a:solidFill>
                <a:latin typeface="Calibri"/>
              </a:rPr>
              <a:t>Примарна, секундарна и терцијарна здравствена заштита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Примарна здравствена заштита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 – установе у којима грађани могу да оду без упута: дом здравља, апотека, студентска поликлиника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,завод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 за хитну медицинску помоћ, геронтологију, стоматологију, плућне болести и туберкулозу ..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Дом здрављ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Дом здравља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Arial"/>
              </a:rPr>
              <a:t>- з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дравствена установа која обавља здравствену делатност на нивоу примарне здрваствене заштите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Превентивна здравствена заштита за све категорије становништв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Здравствена заштита деце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Здравствена заштита жен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Здравствена заштита из области опште медицине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Здравствена заштита из области кућног лечења..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Здравствена заштита из области денталне медицине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Лабораторијска и друга дијагностик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Здравствена заштита из области медицине рад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Специјалистичко консултативна  делатност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Апотекарска делатност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Примарна здравствена заштит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Циљеви здравствене заштите на примарном нивоу се остварују кроз :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1. систематске прегледе, контролне прегледе, вакцинацију и ревакцинацију ;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2. систематске прегледе, контролне прегледе, прегледе у вези са планирањем породице, циљане прегледе на рано откривање рака грлића материце и дојке, прегледе током трудноће и у постпарталном периоду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3. с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стематске стоматолошке прегледе, контролне стоматолошке прегледе, скрининг ортодонтских неправилности и скрининг ризика на парадонтопатију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Примарна здравствена заштит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Специјалистичко консултативна  делатност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реглед лекара специјалиста (офталмолог, оториноларинголог, интерниста, неуролог психијатар, пнеумофтизиолог, физикална медицина и рехабилитација): први и контролни преглед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sr-CS" sz="2200" spc="-1" strike="noStrike">
                <a:solidFill>
                  <a:srgbClr val="696464"/>
                </a:solidFill>
                <a:latin typeface="Calibri"/>
              </a:rPr>
              <a:t>Примарна здравствена заштита</a:t>
            </a:r>
            <a:br>
              <a:rPr sz="2200"/>
            </a:br>
            <a:r>
              <a:rPr b="0" lang="en-US" sz="2200" spc="-1" strike="noStrike">
                <a:solidFill>
                  <a:srgbClr val="696464"/>
                </a:solidFill>
                <a:latin typeface="Franklin Gothic Book"/>
              </a:rPr>
              <a:t>Лабораторијска и друга дијагностика</a:t>
            </a:r>
            <a:br>
              <a:rPr sz="3600"/>
            </a:br>
            <a:endParaRPr b="0" lang="en-US" sz="2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Лабораторијске анализе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Cambria"/>
              </a:rPr>
              <a:t>хематолошки параметри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(еритроцити, хемоглобин, хематокрит, леукоцити, тромбоцити, седиментација, леукоцитарна формула, протромбинско време, време крварења, факори коагулације, ретикулоцити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Cambria"/>
              </a:rPr>
              <a:t>Биохемијске анализе крви и урина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(протеинограм, уреа, креатинин у крви, укупни билирубин, трансаминазе, липидограм, алкална,кисела фосфатаза, шећер у крви, ОГТТ, гвожђе, јонограм,фибриноген, гликолизирани хемоглобин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Cambria"/>
              </a:rPr>
              <a:t>Микробиолошка лабораториј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Franklin Gothic Book"/>
              </a:rPr>
              <a:t>Систем здравствене заштите у Србији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акон о здравственој заштити Републике Србије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акон уређује систем здравствене заштите, организацију здравствене бриге свих грађана, права и обавезе пацијената, заштиту страних лица, надзор над спровођењем овог закона..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У оквиру здрваственог система РС здравствена заштита је примарно орјентисана ка пацијенту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sr-CS" sz="2500" spc="-1" strike="noStrike">
                <a:solidFill>
                  <a:srgbClr val="696464"/>
                </a:solidFill>
                <a:latin typeface="Calibri"/>
              </a:rPr>
              <a:t>Примарна здравствена заштита</a:t>
            </a:r>
            <a:br>
              <a:rPr sz="2500"/>
            </a:br>
            <a:r>
              <a:rPr b="0" lang="en-US" sz="2500" spc="-1" strike="noStrike">
                <a:solidFill>
                  <a:srgbClr val="696464"/>
                </a:solidFill>
                <a:latin typeface="Franklin Gothic Book"/>
              </a:rPr>
              <a:t>Лабораторијска и друга дијагностика</a:t>
            </a:r>
            <a:br>
              <a:rPr sz="2500"/>
            </a:br>
            <a:endParaRPr b="0" lang="en-US" sz="25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Дијагно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с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тичке процедуре у оквиру дома здравља: рендген (срца, плућа,коштано мишићног система, графија гастродуоденума са контрастом.. ) и ултразвучна дијагностика (штитаста жлезда, срце,бубрези, крвни судови, кукови...)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sr-CS" sz="2800" spc="-1" strike="noStrike">
                <a:solidFill>
                  <a:srgbClr val="696464"/>
                </a:solidFill>
                <a:latin typeface="Calibri"/>
              </a:rPr>
              <a:t>Примарна здравствена заштита</a:t>
            </a:r>
            <a:br>
              <a:rPr sz="2800"/>
            </a:b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 Апотекарска делатност </a:t>
            </a: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Апотекарска установа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дистрибуира лекове које финансира РЗЗО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(тзв. “позитивна листа”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mbria"/>
              </a:rPr>
              <a:t>прикупља партиципацију од пацијенат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mbria"/>
              </a:rPr>
              <a:t>продаје лекове са “негативне листе” пацијентим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Секундарна здравствена заштит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пецијалистичко – консултативна заштита (</a:t>
            </a:r>
            <a:r>
              <a:rPr b="1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сложенија него на примарном нивоу, обухвата и процесе лечења и рехабилитације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Болничко здравствену делатност: дијагностика,лечење и рехабилитација и здравствена нега у болници, фармацеутска делатност у болничкој апотеци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Секундарни ниво здравствене заштите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општа хирургиј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гинекологија са акушерством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нтерна медицин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нфектологиј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дерматовенерологиј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едијатриј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Секундарна здравствена заштит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Опште болнице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пецијалне болнице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Терцијарна здравствена заштит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ајсложенији вид здравствене заштите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Остварује се кроз делатност 4 клиничка центр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Терцијарна здравствена заштит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ружа </a:t>
            </a:r>
            <a:r>
              <a:rPr b="1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најсложеније облике здравствене заштите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, специјалистичко консултативне и болничке здравствене делатности, као и </a:t>
            </a:r>
            <a:r>
              <a:rPr b="1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научно истраживачку и образовну делатност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Терцијарна здравствена заштит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Клиник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Клинички центар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нститут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Клиничко болнички центар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Службе института или завода за заштиту здрављ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микробиологиј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епидемиологиј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оцијална медицин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лужба хигијене (контрола исправности воде и намирница, услова у школама, вртићима, итд.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96464"/>
                </a:solidFill>
                <a:latin typeface="Cambria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Calibri"/>
              </a:rPr>
              <a:t>Принципи добре комуникације фармацеута са пацијентим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Franklin Gothic Book"/>
              </a:rPr>
              <a:t>Систем здравствене заштите у Србији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сновни циљ здравствене заштите у  Србији је </a:t>
            </a:r>
            <a:r>
              <a:rPr b="1" lang="sr-CS" sz="2800" spc="-1" strike="noStrike" u="sng">
                <a:solidFill>
                  <a:srgbClr val="ff0000"/>
                </a:solidFill>
                <a:uFillTx/>
                <a:latin typeface="Cambria"/>
              </a:rPr>
              <a:t>да очување здравља становништва републике Србије буде на највишем нивоу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дравствена заштита подразумева </a:t>
            </a:r>
            <a:r>
              <a:rPr b="1" lang="sr-CS" sz="2800" spc="-1" strike="noStrike" u="sng">
                <a:solidFill>
                  <a:srgbClr val="ff0000"/>
                </a:solidFill>
                <a:uFillTx/>
                <a:latin typeface="Cambria"/>
              </a:rPr>
              <a:t>скуп делатности које унапређују здравствено стање становништва кроз спречавање сузбијање и рано дијагностиковање болести, повреда и других поремећаја здравља, правовремено и ефикасно лечење и рехабилитацију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Однос и изглед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днос је општи емоционални став који радник заузима према својим дужностима на послу, муштеријама, послодавцу и сарадницима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сновно правило за све запослене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“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и увек представљате ваше предузеће пред муштеријама или пацијентима. Запамтите да сте у апотеци, у правном смислу, ви заступник вашег послодавца, и да сте у обавези да пружите одговарајућу услугу пацијенту. Ваш послодаваца мора да “одговара” за сваку вашу акцију.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Професионалан изглед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ацијент очекује највиши степен чистоће и професионализма када улази у апотеку; он поверава своје и здравље своје породице особљу апотеке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а себи имати пристојну одећу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увек имати чист, испеглан мантил, са беџом на коме је одштампано ваше име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чиста коса, са уредном фризуром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Реаговати на пацијенте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када пацијент уђе у апотеку, треба му се одмах обратити; никако га не треба оставити да сам, збуњено, погледом трага за запосленим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замислите како се осећате када сте у ресторану, а конобар не долази до вашег стола ни после неколико позив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Поштујте приватност пацијент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ноги лекови се примењују на скривеним регијама тела, и пацијентима је често непријатно да о томе говор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скреним, позитивним приступом, са поштовањем, без подсмеха или цинизма, треба дискретно подстаћи пацијента да искаже шта жел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говорити са пацијентом довољно гласно, али тако да остали у просторији не чују шта се говор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ада од пацијента тражите додатне личне податке или објашњења, учините то дискретно, тако да други пацијенти то не чују или вид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Насмешите се и успоставите контакт очим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ацијента увек треба гледати у оч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добродушан осмех на лицу ће опустити пацијента, и олакшати му да искаже своје тегобе и потребе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већина људи сматра да гледање другога у очи док му се обраћате значи поштење, искреност и поштовање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Будите љубазни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век се обраћати са “господине”, “госпођо”, “госпођице”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68360" y="3141720"/>
          <a:ext cx="8229600" cy="3016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ОВАКО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ВЕЋ ОВА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 хоћете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 ли вам помоћи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но га тамо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о, сада ћу вам показат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 је 125 динар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 ће изнети 100 динара, моли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ећи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 ли помоћи следећем муштерији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Будите осетљиви на културне и језичке разлике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ако пацијент слабо познаје језик, говорите му полако, избегавајући сленг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отражите некога од запослених који добро говори језик којим пацијент говори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ослужите се цртежом да би боље комуницирали са пацијентом, ако је потребно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познајте културу људи који често долазе у вашу апотеку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Комуницирајте у оквиру своје компетентности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ледите радне процедуре које су важеће у апотеци у којој радит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ужите пацијенту само оне информације које су вам добро познат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 бојте се да признате да не знате оно што излази из ваше компетенциј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икада пред пацијентима не оцењујте лекаре, фармацеуте или ваше колег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Комуникација телефоном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век започните разговор са “Добар дан”, а завршите са “Хвала на позиву”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ажљиво слушајте и говорите мирним,природним гласом; глас треба да буде пријатељски, али не фамилијаран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ако неко добро не чује, стрпљиво поновите разговетно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на почетку разговора идентификујте себе и апотеку у којој радите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ајте само проверене информације преко телефона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Односи међу запосленим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запамтите: “да би вас други поштовали, неопходно је да их ви поштујете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увек задржите професионалан однос, концентришући се на садржину комуникације, а не на начин, који понекад може бити непримерен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икада не одговарајте на провокативна понашања, већ задржите професионалан однос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Franklin Gothic Book"/>
              </a:rPr>
              <a:t>Систем здравствене заштите у Србији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Здравствена заштита се остварује кроз здравствену делатност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Здравствена делатност подразумева </a:t>
            </a:r>
            <a:r>
              <a:rPr b="1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низ мера и активности које се заснивају на научним доказима, здравственој доктрини и употреби здравствених технологија, а са циљем да се очува и унапреди здравствено стање становништва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Професионално понашање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оштовати професионалну хијерархију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збегавати фамилијарност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риватни телефонски позиви и посете само у време паузе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е збијати шале на туђ рачун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е задирати у туђу приватност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Вербална и невербална комуникациј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бро савладајте медицинску терминологију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говорите граматички правилно, књижевним језиком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говорите довољно гласно, без скраћеница и речи из сленг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ажљиво слушајте шта вам пацијенти говоре, и гледајте их у оч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удите стрпљив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ислите о пацијентима генерално позитивно и гајите искрену жељу да им помогнете: тада ће ваша невербална комуникација то одражават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Увреде и расправа са пацијентим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едозвољива је дискриминација пацијената по било ком основу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едозвољива је било каква увреда пацијент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а увреде не одговарајте против-увредам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увек покушајте да смирите и рационализујете ситуацију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5736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</a:rPr>
              <a:t>Фармацеутска здравствена заштита</a:t>
            </a:r>
            <a:br>
              <a:rPr sz="2800"/>
            </a:br>
            <a:r>
              <a:rPr b="0" lang="sr-CS" sz="2800" spc="-1" strike="noStrike">
                <a:solidFill>
                  <a:srgbClr val="ffffff"/>
                </a:solidFill>
                <a:latin typeface="Calibri"/>
              </a:rPr>
              <a:t> Фармацеутска делатност у установама примарне, секундарне и терцијарне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здравствене </a:t>
            </a:r>
            <a:r>
              <a:rPr b="0" lang="sr-CS" sz="2800" spc="-1" strike="noStrike">
                <a:solidFill>
                  <a:srgbClr val="ffffff"/>
                </a:solidFill>
                <a:latin typeface="Calibri"/>
              </a:rPr>
              <a:t>заштите</a:t>
            </a:r>
            <a:r>
              <a:rPr b="0" lang="sr-CS" sz="4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У фокусу здравствених се налази пацијент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азвој модерних здравствених система је допринео и промени концепта бриге о здрављу, у смислу преузимања веће одговорности становништва, првенствено значајним унапређењем промоциjе здравља и здравствене неге, као и адекватније употребе ресурса у оквиру здравствених система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Хумани ресурси (лекари, фармацеути, стоматолози као и њихови сарадници) имају доминантну улогу у системима здравствене заштите становништва од којих се у модерним здравственим системима очекује виши степен интеракција, а у циљу унапређења здравственог стања пацијената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914400" y="151920"/>
            <a:ext cx="7772400" cy="63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себан аспект развоја се односи и на позицију фармацеута у модерним здравственим системима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Традиционална улога фармацеута је примарно усмерена не производњу и издавање леков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У савременим здравственим системима фармацеутска делатност обухвата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омплекснији процес саветовања пацијената о употреби лекова и суплеменат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активно учешће у процесу лечења и мониторинга примењене терапиј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учешће у превенцији, лечењу и мониторингу хроничних незаразних болести и превенцији и лечењу заразних болест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омоцију здравља, превенцију дејстава различитих нокси из околине и лечење последица тровања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914400" y="475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нцепт фармацеутске здравствене заштите (eng. pharmaceutical care) </a:t>
            </a:r>
            <a:r>
              <a:rPr b="0" lang="sr-RS" sz="2600" spc="-1" strike="noStrike">
                <a:solidFill>
                  <a:srgbClr val="000000"/>
                </a:solidFill>
                <a:latin typeface="Cambria"/>
              </a:rPr>
              <a:t>подразумева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ктивно и одговорно учешће фармацеута у процесу лечења пацијената са циљем остваривања унапред утврђених медицинских исхода који унапређују квалитет живота оболелих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интеракције фармацеута како са пацијентима тако и са другим здравственим стручњацима у креирању, примени и надзору одређених терапијских процедура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фесионалне позиције фармацеута у савременом добу су значајне на свим нивоима здравствене заштите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68000" y="333360"/>
            <a:ext cx="82040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mbria"/>
              </a:rPr>
              <a:t>Рад у апотеци: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ипломирани фармацеут спроводи фармацеутску здравствену заштиту у оквиру апотека при домовима здравља на нивоу примарне здравствене заштите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 оквиру примарне здравствене заштите фармацеутска делатност је усмерена на процесе  издавање лекова на рецепт и без рецепта уз адекватно саветовање пацијената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омен рада са лековима у окружењу апотека у оквиру установа примарне здравствене заштите подразумева и процесе набавке лекова, адекватaн начин чувања и складиштења, припрему лекова, вођење и чување документације о сваком наведеном процесу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914400" y="692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Термин "community pharmacy“ описује позицију и делатност фармацеута у модерним здравственим системима и односи се на процесе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здавања лекова на рецепт и без рецепта ( (eng. Over-the-counter (OTC) - ОТЦ лекови који се издају без рецепта, на рачун,) уз адекватно саветовање пацијенат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зраде лека у фармацеутском облику и дози, а према индивидуалним потребама пацијената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авилне едукације пацијената о употреби лека или медицинског средств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авилног одабира показатеља (лабораторијских, клиничких) који се користе у мониторингу примењене терапиј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Franklin Gothic Book"/>
              </a:rPr>
              <a:t>Систем здравствене заштите у Србиј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У спровођењу здравствене заштите учествују: пружаоци здравствене заштите, организације за здравствено осигурање, грађани, породица, послодавци, образовне али и друге установе,јединице локалне самоуправе,аутономне покрајине и  рс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900000" y="4046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тумачења исхода примењене терапиј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евалуације клиничких извештаја и рецепат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авовремене детекције и превенције евентуалних грешака које могу бити повезане са применом лека (дуплирање лекова, интеракције између лекова, присуство контраиндикација, нежељене реакције на лекове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омоције здравља и превентивних мера у циљу спречавања настанка акутних и хроничних болести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91440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Фармацеутска делатност у установама секундарне и терцијарне здравствене заштите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лога болничког фармацеута је сложениј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ред снабдевања болнице лековима подразумева и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чествовање у процесу лечењ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зраду галенских препарат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ткривање интеракција између леков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авовремену детекцију нежељених реакција на лекове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едукацију пацијената о примени лекова и медицинских средстав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аћење потрошње леков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зраду локалних терапијских протокол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ад са радиофармацеутицим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зраду фармакоекономских анализа за потребе болнице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чешће у раду регулаторних тела и различитих експертских група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Franklin Gothic Book"/>
              </a:rPr>
              <a:t>Систем здравствене заштите у Србиј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истем здравствене заштите чине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равствен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е установе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Високошколске установе здравствене струке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У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танове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приватне праксе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равствени радници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равствени сарадници који обављају здравствену делатност у складу са законом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Организације за финансирање здравствене заштите.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Franklin Gothic Book"/>
              </a:rPr>
              <a:t>Систем здравствене заштите у Србији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Основна начела здравствене заштите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97240" indent="-597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mbria"/>
              </a:rPr>
              <a:t>Начело п</a:t>
            </a:r>
            <a:r>
              <a:rPr b="1" lang="en-US" sz="2400" spc="-1" strike="noStrike">
                <a:solidFill>
                  <a:srgbClr val="ff0000"/>
                </a:solidFill>
                <a:latin typeface="Perpetua"/>
              </a:rPr>
              <a:t>оштовања људских права и вредности права детета у</a:t>
            </a:r>
            <a:r>
              <a:rPr b="1" lang="sr-CS" sz="2400" spc="-1" strike="noStrike">
                <a:solidFill>
                  <a:srgbClr val="ff0000"/>
                </a:solidFill>
                <a:latin typeface="Cambria"/>
              </a:rPr>
              <a:t> здравствен</a:t>
            </a:r>
            <a:r>
              <a:rPr b="1" lang="en-US" sz="2400" spc="-1" strike="noStrike">
                <a:solidFill>
                  <a:srgbClr val="ff0000"/>
                </a:solidFill>
                <a:latin typeface="Perpetua"/>
              </a:rPr>
              <a:t>ој</a:t>
            </a:r>
            <a:r>
              <a:rPr b="1" lang="sr-CS" sz="2400" spc="-1" strike="noStrike">
                <a:solidFill>
                  <a:srgbClr val="ff0000"/>
                </a:solidFill>
                <a:latin typeface="Cambria"/>
              </a:rPr>
              <a:t> заштит</a:t>
            </a:r>
            <a:r>
              <a:rPr b="1" lang="en-US" sz="2400" spc="-1" strike="noStrike">
                <a:solidFill>
                  <a:srgbClr val="ff0000"/>
                </a:solidFill>
                <a:latin typeface="Perpetu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97240" indent="-597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mbria"/>
              </a:rPr>
              <a:t>Начело приступачности здравствене заштит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97240" indent="-597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mbria"/>
              </a:rPr>
              <a:t>Начело правичности здравствене заштит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97240" indent="-597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mbria"/>
              </a:rPr>
              <a:t>Начело свеобухватности здравствене заштит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97240" indent="-597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mbria"/>
              </a:rPr>
              <a:t>Начело континуираности здравствене заштит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97240" indent="-597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mbria"/>
              </a:rPr>
              <a:t>Начело сталног унапређења система здравствене заштит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97240" indent="-597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mbria"/>
              </a:rPr>
              <a:t>Начело ефикасности система здравствене заштит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r-CS" sz="2200" spc="-1" strike="noStrike">
                <a:solidFill>
                  <a:srgbClr val="ff0000"/>
                </a:solidFill>
                <a:latin typeface="Calibri"/>
              </a:rPr>
              <a:t>Начело п</a:t>
            </a:r>
            <a:r>
              <a:rPr b="1" lang="en-US" sz="2200" spc="-1" strike="noStrike">
                <a:solidFill>
                  <a:srgbClr val="ff0000"/>
                </a:solidFill>
                <a:latin typeface="Franklin Gothic Book"/>
              </a:rPr>
              <a:t>оштовања људских права и вредности права детета у</a:t>
            </a:r>
            <a:r>
              <a:rPr b="1" lang="sr-CS" sz="2200" spc="-1" strike="noStrike">
                <a:solidFill>
                  <a:srgbClr val="ff0000"/>
                </a:solidFill>
                <a:latin typeface="Calibri"/>
              </a:rPr>
              <a:t> здравствен</a:t>
            </a:r>
            <a:r>
              <a:rPr b="1" lang="en-US" sz="2200" spc="-1" strike="noStrike">
                <a:solidFill>
                  <a:srgbClr val="ff0000"/>
                </a:solidFill>
                <a:latin typeface="Franklin Gothic Book"/>
              </a:rPr>
              <a:t>ој</a:t>
            </a:r>
            <a:r>
              <a:rPr b="1" lang="sr-CS" sz="2200" spc="-1" strike="noStrike">
                <a:solidFill>
                  <a:srgbClr val="ff0000"/>
                </a:solidFill>
                <a:latin typeface="Calibri"/>
              </a:rPr>
              <a:t> заштит</a:t>
            </a:r>
            <a:r>
              <a:rPr b="1" lang="en-US" sz="2200" spc="-1" strike="noStrike">
                <a:solidFill>
                  <a:srgbClr val="ff0000"/>
                </a:solidFill>
                <a:latin typeface="Franklin Gothic Book"/>
              </a:rPr>
              <a:t>и</a:t>
            </a:r>
            <a:br>
              <a:rPr sz="2200"/>
            </a:br>
            <a:endParaRPr b="0" lang="en-US" sz="2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Пружање здравствене заштите подразумева се остварење највишег могућег стандарда људских права и вредности (право на живот, људско достојанство...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При пружању здравствене заштите детету најбољи интерес детета мора бити остварен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здравствена заштита детета мора бити прилагођена детету а право на правилан развој и заштита од свих облика насиља остварена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0:21:11Z</dcterms:created>
  <dc:creator>Bill Gates</dc:creator>
  <dc:description/>
  <dc:language>en-US</dc:language>
  <cp:lastModifiedBy>Marina Kostic</cp:lastModifiedBy>
  <dcterms:modified xsi:type="dcterms:W3CDTF">2023-08-30T09:24:33Z</dcterms:modified>
  <cp:revision>79</cp:revision>
  <dc:subject/>
  <dc:title>Систем здравствене заштите у Србији   (организација примарне, секундарне и терцијалне здраавствене заштите, видови здравственог осигурања, начин уговарања здравствених услуг са здравственим установама, принципи упућивања пацијената).</dc:title>
</cp:coreProperties>
</file>